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9.gif" ContentType="image/gif"/>
  <Override PartName="/ppt/media/image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6EB-20D0-4056-9C7D-4AFC1BBF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11B-025B-4E5F-A02D-A0F3853C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044-1DE0-4010-A9A0-FC100C8E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D0F-B847-4423-88EB-9268E9C5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0C5F-0175-4818-A57A-603AE8C7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D804-EEC2-4178-9DDD-11FFFFC6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2995-2C9C-4EFC-A4F7-90246BD3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2BC8-3826-4A74-86CC-1ECD5DA8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6856-CA3B-4688-B519-05E91B2E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243C-351E-4A46-B3BD-5CBF28E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1F62-1EDB-4636-BA08-04CB847E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D99-AB8F-4019-8BC6-BBB06843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53C9-AB0A-4723-A5C2-EF7F905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1F6B-7507-474D-9764-8E85A9C5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9133-2EE7-4566-9021-9B564800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415B-EBFE-43C8-9201-A7C2E736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432D-A99C-44C1-B1FD-A7D6D51C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933-7F31-4EFE-8FC6-3DAD185F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F90-D810-4CFC-B85A-E6168991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C97-8CC8-4E35-A1A2-BC4656F1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F4E-7433-49F1-BFE8-2B15DDD8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562-C764-42BF-A3ED-56DE9F8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5F5-EA83-4934-9325-66B44B59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089-88E0-433E-BFAD-615F5058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D805-20E0-4002-AABC-D7BE42C7C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E181-9E5B-4168-A92D-D2F8F444D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361960"/>
            <a:ext cx="3810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n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n instrument that uses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reflected sound wave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to find underwater object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5" descr="sonar"/>
          <p:cNvPicPr/>
          <p:nvPr/>
        </p:nvPicPr>
        <p:blipFill>
          <a:blip r:embed="rId1"/>
          <a:stretch/>
        </p:blipFill>
        <p:spPr>
          <a:xfrm>
            <a:off x="380880" y="33526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sonar"/>
          <p:cNvPicPr/>
          <p:nvPr/>
        </p:nvPicPr>
        <p:blipFill>
          <a:blip r:embed="rId2"/>
          <a:stretch/>
        </p:blipFill>
        <p:spPr>
          <a:xfrm>
            <a:off x="3352680" y="335268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onar"/>
          <p:cNvPicPr/>
          <p:nvPr/>
        </p:nvPicPr>
        <p:blipFill>
          <a:blip r:embed="rId3"/>
          <a:stretch/>
        </p:blipFill>
        <p:spPr>
          <a:xfrm>
            <a:off x="6248520" y="4572000"/>
            <a:ext cx="2381040" cy="2048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533520" y="56386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Animals use sonar or echo location to find their prey; these sounds have such a high pitch or frequency that the human ear cannot hea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248520" y="34290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Humans use sonar to locate or map objec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and Instrumen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struments can be played at different pitches by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changing lengths of different part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nother way to make different pitches is to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change the thickness of the material that vibrate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2" name="Picture 6" descr="A2506_trombone_2col_1749"/>
          <p:cNvPicPr/>
          <p:nvPr/>
        </p:nvPicPr>
        <p:blipFill>
          <a:blip r:embed="rId1"/>
          <a:stretch/>
        </p:blipFill>
        <p:spPr>
          <a:xfrm>
            <a:off x="3962520" y="4952880"/>
            <a:ext cx="4267080" cy="1735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762120" y="533412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A trombone’s mute absorbs some of the sound waves produced, thus producing a softer note when played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733920" y="62485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152280" y="6172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6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2590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at’s all folks!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52280" y="6095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019920" y="3200400"/>
            <a:ext cx="10000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85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Orbus Mult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rbus Multiserif"/>
              </a:rPr>
              <a:t>The Facts of Soun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Orbus Mult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rbus Multiserif"/>
              </a:rPr>
              <a:t>The Ear and Soun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Orbus Mult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rbus Multiserif"/>
              </a:rPr>
              <a:t>Sound Vocabular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Orbus Mult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rbus Multiserif"/>
              </a:rPr>
              <a:t>Musical Instruments and Soun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…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1.  Is a form of energy produced &amp; transmitted by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vibrating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2. 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Travels in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3. 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Travel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more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quickly through solid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than liquids or gas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eardi"/>
          <p:cNvPicPr/>
          <p:nvPr/>
        </p:nvPicPr>
        <p:blipFill>
          <a:blip r:embed="rId1"/>
          <a:stretch/>
        </p:blipFill>
        <p:spPr>
          <a:xfrm>
            <a:off x="2209680" y="4267080"/>
            <a:ext cx="419112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E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Sound is carried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to our ears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through vibrating air molecule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ur ears take in sound waves &amp; turn them into signals that go to our brain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waves move through 3 parts of the ear; outer ear, middle ear, &amp; inner ear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886200" y="5715000"/>
            <a:ext cx="1447920" cy="533520"/>
          </a:xfrm>
          <a:prstGeom prst="upArrowCallout">
            <a:avLst>
              <a:gd name="adj1" fmla="val 67854"/>
              <a:gd name="adj2" fmla="val 67848"/>
              <a:gd name="adj3" fmla="val 16667"/>
              <a:gd name="adj4" fmla="val 66660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Back and forth movement of molecule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of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4" name="Picture 5" descr="musicnoise"/>
          <p:cNvPicPr/>
          <p:nvPr/>
        </p:nvPicPr>
        <p:blipFill>
          <a:blip r:embed="rId1"/>
          <a:stretch/>
        </p:blipFill>
        <p:spPr>
          <a:xfrm>
            <a:off x="533520" y="3657600"/>
            <a:ext cx="3429000" cy="241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iver"/>
          <p:cNvPicPr/>
          <p:nvPr/>
        </p:nvPicPr>
        <p:blipFill>
          <a:blip r:embed="rId2"/>
          <a:stretch/>
        </p:blipFill>
        <p:spPr>
          <a:xfrm>
            <a:off x="4876920" y="3505320"/>
            <a:ext cx="32004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ompress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here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molecules are being pressed together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as the sound waves move through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wave travels through the springs just like sound waves travel through the ai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places where the springs are close together are like compressions in the air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Picture 5" descr="1Fig2"/>
          <p:cNvPicPr/>
          <p:nvPr/>
        </p:nvPicPr>
        <p:blipFill>
          <a:blip r:embed="rId1"/>
          <a:stretch/>
        </p:blipFill>
        <p:spPr>
          <a:xfrm>
            <a:off x="2895480" y="4724280"/>
            <a:ext cx="289584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Wave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Alternating areas of high &amp; low pressur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in the ai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LL sound is carried through matter as sound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waves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move out in ALL direction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from a vibrating objec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1" name="Picture 5" descr="sf000-sound"/>
          <p:cNvPicPr/>
          <p:nvPr/>
        </p:nvPicPr>
        <p:blipFill>
          <a:blip r:embed="rId1"/>
          <a:stretch/>
        </p:blipFill>
        <p:spPr>
          <a:xfrm>
            <a:off x="6858000" y="228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istockphoto_576587_orange_blue_sound_waves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2514600" y="4876920"/>
            <a:ext cx="4114800" cy="173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Wavelength &amp; Frequenc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avelength is the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distance between one part of a wav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the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same part of the next wav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requency is the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number of waves moving past a point in one second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5" name="Picture 9" descr="image001"/>
          <p:cNvPicPr/>
          <p:nvPr/>
        </p:nvPicPr>
        <p:blipFill>
          <a:blip r:embed="rId1"/>
          <a:stretch/>
        </p:blipFill>
        <p:spPr>
          <a:xfrm>
            <a:off x="2895480" y="2666880"/>
            <a:ext cx="3276720" cy="1447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freq-wavelength"/>
          <p:cNvPicPr/>
          <p:nvPr/>
        </p:nvPicPr>
        <p:blipFill>
          <a:blip r:embed="rId2"/>
          <a:stretch/>
        </p:blipFill>
        <p:spPr>
          <a:xfrm>
            <a:off x="5791320" y="4952880"/>
            <a:ext cx="29718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itch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391160" cy="1985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measure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how high or low a sound 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itc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epends on the frequenc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f a sound wav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0" name="Picture 5" descr="sound waves"/>
          <p:cNvPicPr/>
          <p:nvPr/>
        </p:nvPicPr>
        <p:blipFill>
          <a:blip r:embed="rId2"/>
          <a:stretch/>
        </p:blipFill>
        <p:spPr>
          <a:xfrm>
            <a:off x="6324480" y="228600"/>
            <a:ext cx="2571840" cy="1219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914400" y="5791320"/>
            <a:ext cx="19051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Low pitc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Low frequency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Longer wavelengt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943600" y="5791320"/>
            <a:ext cx="19051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High pitc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High frequency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Shorter wavelengt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7:45:23Z</dcterms:created>
  <dc:creator>John Doe</dc:creator>
  <dc:description/>
  <dc:language>en-US</dc:language>
  <cp:lastModifiedBy>Adam Goosby</cp:lastModifiedBy>
  <dcterms:modified xsi:type="dcterms:W3CDTF">2010-01-18T00:04:11Z</dcterms:modified>
  <cp:revision>30</cp:revision>
  <dc:subject/>
  <dc:title>So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33</vt:lpwstr>
  </property>
</Properties>
</file>